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248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4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8880" y="693360"/>
            <a:ext cx="4622760" cy="346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8328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78328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94CF-2617-4D50-8B7E-FD512B036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CBEF-5632-4C61-A1D6-0F4B45111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1196-448F-4A14-A364-8B0CCB704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7343-367E-4AF7-9C3A-099F9577E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783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AA97-A7B7-4DA4-A410-FC79DBBD2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1924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92720"/>
            <a:ext cx="548640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D70-FB00-4FBB-8002-991B4F3D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597-33BA-4BD2-A242-9E5D7679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3B9-50F8-47DF-BF55-996A13CB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572F-A1DD-4272-A478-D58A08B6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4E72-83BC-4C37-B12E-0C4A91B4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6C7B-EFAF-4DFC-A85F-7AC8A8DC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BAED-1715-423A-8065-4C68C023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23D8-B44F-4842-8984-BEFC798A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AB86-6AD6-4AE1-B797-9F293140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772B-F172-4F87-81BC-07ED3933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998A-200A-4AFB-836E-C229C49D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E54-DD98-485D-9DAE-2F7F653F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0759-4E8E-4EEB-B22C-B61F7F31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F163-A515-4FCB-8014-17D4AC7B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8DA4-D4B2-43B8-8E6E-89902629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433F-A879-431E-BDD0-3AC4DB3B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77BA-84A4-4E21-9A23-B5DC3FC1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AB4-07C9-4C1D-913A-08CA3DD9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333F-86D2-496F-A501-451B3F61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CE4-4F4A-4718-8EAE-DBE1BB29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ADA-0731-4FA0-842E-D5AEEC5B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B28-9444-4213-85EE-91C89137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D0D-5A7C-438F-B5E8-A58762CE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36E-CB12-4E48-8E83-21CCA260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017A-191F-4F58-822E-D4C95DE0AB1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FB61-E68D-4CCF-9B90-92CD3F9CC6B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4 Major Sty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14300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pective 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cism 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larism 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ism –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373356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edieval Ar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2" name="Picture 5" descr="giolam"/>
          <p:cNvPicPr/>
          <p:nvPr/>
        </p:nvPicPr>
        <p:blipFill>
          <a:blip r:embed="rId2"/>
          <a:stretch/>
        </p:blipFill>
        <p:spPr>
          <a:xfrm>
            <a:off x="0" y="984240"/>
            <a:ext cx="6324480" cy="5873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6400800" y="68580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Focus on the div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Flat, 2-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Same face/no det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inconsistent size (body vs. le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asaccio-Tribute Mone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1427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5" name="Picture 9" descr="Masaccio-tribute"/>
          <p:cNvPicPr/>
          <p:nvPr/>
        </p:nvPicPr>
        <p:blipFill>
          <a:blip r:embed="rId2"/>
          <a:stretch/>
        </p:blipFill>
        <p:spPr>
          <a:xfrm>
            <a:off x="152280" y="1905120"/>
            <a:ext cx="885348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Botticelli, The Birth of Venu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7" name="Picture 4" descr="botticelli_venus"/>
          <p:cNvPicPr/>
          <p:nvPr/>
        </p:nvPicPr>
        <p:blipFill>
          <a:blip r:embed="rId2"/>
          <a:stretch/>
        </p:blipFill>
        <p:spPr>
          <a:xfrm>
            <a:off x="457200" y="1600200"/>
            <a:ext cx="8153280" cy="506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600" y="228600"/>
            <a:ext cx="2743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donna of Chancellor Roll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rolin"/>
          <p:cNvPicPr/>
          <p:nvPr/>
        </p:nvPicPr>
        <p:blipFill>
          <a:blip r:embed="rId2"/>
          <a:stretch/>
        </p:blipFill>
        <p:spPr>
          <a:xfrm>
            <a:off x="3124080" y="457200"/>
            <a:ext cx="5799240" cy="6151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52280" y="76320"/>
            <a:ext cx="89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BlackChancery"/>
              </a:rPr>
              <a:t>The Doge, Leonardo Loredon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BlackChancery"/>
              </a:rPr>
              <a:t>Berlini, 150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3" descr="Bellini-The Doge Leonardo Loredon-1501-05"/>
          <p:cNvPicPr/>
          <p:nvPr/>
        </p:nvPicPr>
        <p:blipFill>
          <a:blip r:embed="rId2"/>
          <a:srcRect l="1840" t="2684" r="2454" b="14095"/>
          <a:stretch/>
        </p:blipFill>
        <p:spPr>
          <a:xfrm>
            <a:off x="2362320" y="1447920"/>
            <a:ext cx="44100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01:02:39Z</dcterms:created>
  <dc:creator>Will</dc:creator>
  <dc:description/>
  <dc:language>en-US</dc:language>
  <cp:lastModifiedBy>School District</cp:lastModifiedBy>
  <dcterms:modified xsi:type="dcterms:W3CDTF">2012-01-31T21:31:38Z</dcterms:modified>
  <cp:revision>16</cp:revision>
  <dc:subject/>
  <dc:title>Masaccio-Tribute Money 1427</dc:title>
</cp:coreProperties>
</file>